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9.pct" ContentType="image/x-pict"/>
  <Override PartName="/ppt/media/image23.gif" ContentType="image/gif"/>
  <Override PartName="/ppt/media/image22.gif" ContentType="image/gif"/>
  <Override PartName="/ppt/media/image28.gif" ContentType="image/gif"/>
  <Override PartName="/ppt/media/image5.gif" ContentType="image/gif"/>
  <Override PartName="/ppt/media/image6.pct" ContentType="image/x-pict"/>
  <Override PartName="/ppt/media/image31.pct" ContentType="image/x-pict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media/image30.pct" ContentType="image/x-pict"/>
  <Override PartName="/ppt/media/image32.pct" ContentType="image/x-pict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.gif" ContentType="image/gif"/>
  <Override PartName="/ppt/media/image25.gif" ContentType="image/gif"/>
  <Override PartName="/ppt/media/image21.pct" ContentType="image/x-pict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DED-6ABA-494C-A791-C87CF23A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32C-99AE-42F0-83D5-74E1417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74B-B21E-4993-959C-0BB9A5CE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250-36EC-45BF-8BE9-EB6AD2DF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907-C9F4-460F-B88A-E64A6533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39D-57C6-4183-842D-265E72D1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D40-4A6B-4C79-B544-250766B0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20F-CCDC-4EB3-A21D-984721F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8EF-A3E9-4069-AA71-2C2D009E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71B-5596-4099-A216-E250456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954-7B15-48A3-83F8-4577338D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949-7792-4377-99C8-C807E53F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5CF-DAF0-4474-A921-E34A015E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2.pct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is is the King of “ing” 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858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3177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Here comes the nice twin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O o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y are going to sch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o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3432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2743200"/>
            <a:ext cx="30924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-H     wh, wh, w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t’s a question word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 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t  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re   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714600" cy="152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153280" y="3809880"/>
            <a:ext cx="71460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14600" y="3962520"/>
            <a:ext cx="71424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71424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924680" y="2362320"/>
            <a:ext cx="7146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257800" y="2286000"/>
            <a:ext cx="71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c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         c-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-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tick you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 in a j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of st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r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, ar, 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r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, ar, 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3809880"/>
            <a:ext cx="4854600" cy="207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1504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r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r, or, or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r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or, or, 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 want m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 fis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2716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ui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ui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n the middle of a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510552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fr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ui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18320" y="5181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j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ui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w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t the end of a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33412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334120"/>
            <a:ext cx="280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25160" y="5257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fl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59160" y="2743200"/>
            <a:ext cx="203832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944800" cy="1469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3603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You take a scaredy cat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You take a scaredy cat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ut them together and what do they say?   EEEEEEEEEE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105732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197000" cy="147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46440" y="5638680"/>
            <a:ext cx="2741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a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5627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ce cr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a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ome letters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-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say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, A, A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do you want to pl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wish, score, hoor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ut don’t forget this….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Some letters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-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say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, A, A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t the end of a word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n’t you forget it!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41972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l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5334120"/>
            <a:ext cx="2394000" cy="128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29000" y="5257800"/>
            <a:ext cx="1612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en you see a double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you say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, e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t’s a bumble b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party!!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 e e e e 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 e e e e 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5181480"/>
            <a:ext cx="110952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117936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49200" y="3809880"/>
            <a:ext cx="120168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502400" y="3581280"/>
            <a:ext cx="1135080" cy="129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86200" y="4191120"/>
            <a:ext cx="1268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aid to 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“Hey i, get out of my way!  I’m going to say ‘a’ today!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o when you see ‘ai’ you say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‘A’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19920" y="609480"/>
          <a:ext cx="91440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609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609480"/>
          <a:ext cx="914400" cy="91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609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3520" y="4038480"/>
          <a:ext cx="1752480" cy="175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0384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657600" y="4191120"/>
            <a:ext cx="5092560" cy="895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n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ai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r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ai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-n-g   i-n-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ing, ing, 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03372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l-l  a-l-l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all, all,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44480" cy="185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2369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-h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 s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-h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7815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s is a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rn and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t is a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stle.   t-h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-h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7400" y="2438280"/>
          <a:ext cx="17272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1727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t’s time to do the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ck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 dance…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-h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-h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73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U       ou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u-t, o-u-t get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u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 of here you bumble bee!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u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523880" cy="130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6172200" cy="1603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5238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W  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c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is going d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D-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-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-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5535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Here comes the bully brother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O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y t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o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k my b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o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22302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2247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1:00:18Z</dcterms:created>
  <dc:creator>Edgewood User</dc:creator>
  <dc:description/>
  <dc:language>en-US</dc:language>
  <cp:lastModifiedBy>Edgewood User</cp:lastModifiedBy>
  <cp:lastPrinted>2009-10-27T16:06:19Z</cp:lastPrinted>
  <dcterms:modified xsi:type="dcterms:W3CDTF">2009-11-02T13:18:01Z</dcterms:modified>
  <cp:revision>12</cp:revision>
  <dc:subject/>
  <dc:title>This is the King of “ing” Dance</dc:title>
</cp:coreProperties>
</file>